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5.jpeg" ContentType="image/jpeg"/>
  <Override PartName="/ppt/media/image10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E6AE-30FA-4022-BE63-BDB665D53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1F7F-6484-4454-BA24-20FD5B9D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D229-8448-48A3-A7CA-91F7660EA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8AC5-3192-4C1F-A09A-5428F0257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54F2-4C51-4E2B-A218-EE82B227D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24B7-1616-42DE-86FE-EA387EF0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1A77-B4F6-446B-8C80-F2044595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29C3-7240-4FDD-A104-67BE39C1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031C-EA60-4F88-8ECD-852AEF6F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24CC-6543-4850-80B8-73261D82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A48B-5748-411C-8D10-A0C11C1B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62EF-3038-44C5-B904-34FFC0B0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D7CC-6C1C-4293-B48C-B0FCB9A7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C1C5-3D64-42BD-8ABD-514D7067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D27E-891F-493E-967C-853B7851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DB9B-EC49-4751-9845-202BC50BC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E869-D854-4FE2-844C-56AADEEFA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27D44-3522-4CEE-80B3-0D21DC57B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71F34-4EC1-4C50-80C4-F8088FFD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B00E0-0BB8-46FE-A313-BDE33755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D51E7-E1C6-4301-9551-E1CCD7C5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5B0FA-8E9B-4A1F-B0BA-543431CE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5753-BF9E-4F53-926C-D3E3885A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67814-B52D-4563-8514-B209E62F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CDC65-CBEC-496A-925A-D8426574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E755D-2CFC-4FFE-93C1-899A2A06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2F9B4-06F6-4BAD-A049-B1F6E5B4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C9473-66AF-4066-92BD-BA91A8DF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71D56-B109-4207-803C-DE796C234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A8C58-A48B-4684-BAB5-5734AB8DF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B7D5B-483B-4CFF-99C8-541A01A76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E9095-3957-43F1-BC25-9F3565F6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18C91-436F-4505-8944-F2553BBC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990A-9416-4641-8AD1-BD9EA0B3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BA9CD-002E-476E-86A3-25FE4C24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D7713-739F-4DA2-A04E-BA937132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8B90B-6DC0-4678-8D11-BDE22F45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7037B-5410-4BA0-8366-8B1734F6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9CDC6-2D16-4A7C-B9EA-AC571227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22212-0081-47A3-8840-C660A1B3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B99DF-73CD-4AA9-9D2D-98B2777A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BCD03-A064-439B-A1B4-BF7AADC3A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2AB6F-69A4-453C-9DB4-2C95965C4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A866F-F1BA-4AAE-AB00-2F5E6616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805E-5EB7-446F-84A7-C69F459D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D99CA-C362-4A85-8196-79DC8E11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3784E-5B7F-49E2-A21E-6E998DC6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791A6-4DAE-4904-8E67-CC3A5B08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02052-81F3-4D26-98C6-6CDC0C7D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DA1E6-E0CB-4E82-B534-1BE5FA99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A07C8-FD19-4836-B173-57530CE0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FB933-E0C8-4C1C-AB13-6F596D4A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D4DBE-5F47-4919-A9B3-19A6E404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FC05B-1660-4964-B8A6-BE311E35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FA05D-477B-46E3-B18A-08556EE7C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A0D2-95DA-43E9-8490-0384B7DB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3B61F-FF28-452B-819B-FB7883DE6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C8A2-4FE8-457F-B338-50AEB853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D2FC-9482-4EE9-A215-B203CE05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948A-2C0C-4D8D-978D-AC39F327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7CA9-F715-46C6-9232-B66B3D23FE6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B34F-F4E7-4353-80E5-6F2995D3060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B14C-7ECC-464F-8A5B-31A112D114D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B2E0-8D0A-4734-8B64-3E07B54C398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FEA2-C888-41F1-A1B1-F1539FBDE3B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2216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perts believe that a stunning 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 to 40 percent of the $2.4 trillion America spends on health care in 2008 will be wasted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n misuse (including harmful and fatal errors),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veruse (care that’s unnecessary)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r underuse ( effective care that’s not provided)</a:t>
            </a:r>
            <a:r>
              <a:rPr b="1" lang="en-US" sz="18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41544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1610"/>
                </a:solidFill>
                <a:latin typeface="Times New Roman"/>
                <a:ea typeface="Times New Roman"/>
              </a:rPr>
              <a:t>The Overuse and Misuse of Health Care Resources:  Reduction of Bronchodilator Utilization in the Management of Acute Bronchiolitis in Childre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0" name="Picture 2" descr="http://www.massmed.org/AM/Images/2008_AR_cover.jpg"/>
          <p:cNvPicPr/>
          <p:nvPr/>
        </p:nvPicPr>
        <p:blipFill>
          <a:blip r:embed="rId1"/>
          <a:stretch/>
        </p:blipFill>
        <p:spPr>
          <a:xfrm>
            <a:off x="5029200" y="2590920"/>
            <a:ext cx="304488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lan</a:t>
            </a:r>
            <a:r>
              <a:rPr b="1" lang="en-US" sz="4000" spc="-1" strike="noStrike">
                <a:solidFill>
                  <a:srgbClr val="ff0000"/>
                </a:solidFill>
                <a:latin typeface="Franklin Gothic Book"/>
              </a:rPr>
              <a:t>…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53" name="Picture 2" descr="http://leadershipchamps.files.wordpress.com/2008/03/pdca.png"/>
          <p:cNvPicPr/>
          <p:nvPr/>
        </p:nvPicPr>
        <p:blipFill>
          <a:blip r:embed="rId1"/>
          <a:stretch/>
        </p:blipFill>
        <p:spPr>
          <a:xfrm>
            <a:off x="7010280" y="0"/>
            <a:ext cx="1752840" cy="16002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68562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"/>
          <p:cNvSpPr/>
          <p:nvPr/>
        </p:nvSpPr>
        <p:spPr>
          <a:xfrm>
            <a:off x="2520" y="47520"/>
            <a:ext cx="231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990720" y="2141640"/>
          <a:ext cx="7315200" cy="3735360"/>
        </p:xfrm>
        <a:graphic>
          <a:graphicData uri="http://schemas.openxmlformats.org/drawingml/2006/table">
            <a:tbl>
              <a:tblPr/>
              <a:tblGrid>
                <a:gridCol w="1827000"/>
                <a:gridCol w="1827360"/>
                <a:gridCol w="1828800"/>
                <a:gridCol w="1832040"/>
              </a:tblGrid>
              <a:tr h="823320"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iratory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(norm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(infant&gt;50; child &gt;40, adolescent&gt;2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essory Mus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(norm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(supra/sub/inter costal retr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(neck/abdominal muscl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ir Exchang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(norm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(localized decrea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(diffuse decreas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e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(none/end-ex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(entire expira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(entire expiration/inspira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800"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: E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(less than 1: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(greater than 1: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640" rIns="6264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640" marR="62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95280" y="9144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: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Intervention </a:t>
            </a:r>
            <a:br>
              <a:rPr sz="3200"/>
            </a:b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 Objective Respiratory Acuity Scoring Tool</a:t>
            </a:r>
            <a:endParaRPr b="0" lang="en-US" sz="18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58" name="Picture 2" descr="http://leadershipchamps.files.wordpress.com/2008/03/pdca.png"/>
          <p:cNvPicPr/>
          <p:nvPr/>
        </p:nvPicPr>
        <p:blipFill>
          <a:blip r:embed="rId1"/>
          <a:stretch/>
        </p:blipFill>
        <p:spPr>
          <a:xfrm>
            <a:off x="6477120" y="228600"/>
            <a:ext cx="17524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Franklin Gothic Book"/>
              </a:rPr>
              <a:t>Do: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r>
              <a:rPr b="0" lang="en-US" sz="4000" spc="-1" strike="noStrike">
                <a:solidFill>
                  <a:srgbClr val="ff0000"/>
                </a:solidFill>
                <a:latin typeface="Franklin Gothic Book"/>
              </a:rPr>
              <a:t> Intervent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60" name="Picture 2" descr="http://leadershipchamps.files.wordpress.com/2008/03/pdca.png"/>
          <p:cNvPicPr/>
          <p:nvPr/>
        </p:nvPicPr>
        <p:blipFill>
          <a:blip r:embed="rId1"/>
          <a:stretch/>
        </p:blipFill>
        <p:spPr>
          <a:xfrm>
            <a:off x="5943600" y="304920"/>
            <a:ext cx="1752480" cy="9903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990720" y="1523880"/>
            <a:ext cx="68580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: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Intervention</a:t>
            </a:r>
            <a:br>
              <a:rPr sz="36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Standardized Bronchiolitis Order Set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 ED and Inpatient settings 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333720" indent="-3337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Score is 4 or greater—trial of Racemic Epinephrine (evidence demonstrates some modest improvement in Resp Score—so will wait for scores to be clearly indicative of respiratory distres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33720" indent="-3337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33720" indent="-3337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one wants an Albuterol Trial ( should be based on primary FH of Atopy/Asthma)—must specify “Asthma Protocol with albuterol” (and albuterol will be given after a post suction score of 4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33720" indent="-3337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33720" indent="-3337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will be 2 orders on the Bronchiolitis Order Se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33720" indent="-3337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olitis Protocol (start with Racemic Epinephrine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33720" indent="-3337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olitis Protocol (start with Albuterol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33720" indent="-3337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33720" indent="-3337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33720" indent="-3337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33720" indent="-3337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33720" indent="-3337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33720" indent="-3337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4" name="Picture 2" descr="http://leadershipchamps.files.wordpress.com/2008/03/pdca.png"/>
          <p:cNvPicPr/>
          <p:nvPr/>
        </p:nvPicPr>
        <p:blipFill>
          <a:blip r:embed="rId1"/>
          <a:stretch/>
        </p:blipFill>
        <p:spPr>
          <a:xfrm>
            <a:off x="6477120" y="228600"/>
            <a:ext cx="17524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WordArt 2"/>
          <p:cNvSpPr txBox="1"/>
          <p:nvPr/>
        </p:nvSpPr>
        <p:spPr>
          <a:xfrm>
            <a:off x="609480" y="533520"/>
            <a:ext cx="627696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6923c"/>
                </a:solidFill>
                <a:latin typeface="Edwardian Script ITC"/>
              </a:rPr>
              <a:t>Town Hall Meeting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76923c"/>
              </a:solidFill>
              <a:latin typeface="Edwardian Script ITC"/>
              <a:ea typeface="Edwardian Script ITC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0" y="3446640"/>
            <a:ext cx="914400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943634"/>
                </a:solidFill>
                <a:latin typeface="Broadway"/>
              </a:rPr>
              <a:t>Bronchiolitis Protoco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f6228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f6228"/>
                </a:solidFill>
                <a:latin typeface="Brush Script MT"/>
              </a:rPr>
              <a:t>Monday, October 12, 2009 @ 10:30am -  11:00am in the PEDS Conference Ro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f6228"/>
              </a:buClr>
              <a:buFont typeface="Brus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f6228"/>
                </a:solidFill>
                <a:latin typeface="Brush Script MT"/>
              </a:rPr>
              <a:t>Wednesday, October 14, 2009 @ 7am - 7:30a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f6228"/>
                </a:solidFill>
                <a:latin typeface="Brush Script MT"/>
              </a:rPr>
              <a:t>in the Playro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716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:  The Intervention– Education and Changing Culture 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heck 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69" name="Picture 2" descr="http://f09math241.files.wordpress.com/2009/09/choosing.jpg"/>
          <p:cNvPicPr/>
          <p:nvPr/>
        </p:nvPicPr>
        <p:blipFill>
          <a:blip r:embed="rId1"/>
          <a:stretch/>
        </p:blipFill>
        <p:spPr>
          <a:xfrm>
            <a:off x="1676520" y="1525680"/>
            <a:ext cx="510516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Chart 1" descr=""/>
          <p:cNvPicPr/>
          <p:nvPr/>
        </p:nvPicPr>
        <p:blipFill>
          <a:blip r:embed="rId1"/>
          <a:stretch/>
        </p:blipFill>
        <p:spPr>
          <a:xfrm>
            <a:off x="187200" y="230040"/>
            <a:ext cx="8769600" cy="639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Chart 1" descr=""/>
          <p:cNvPicPr/>
          <p:nvPr/>
        </p:nvPicPr>
        <p:blipFill>
          <a:blip r:embed="rId1"/>
          <a:stretch/>
        </p:blipFill>
        <p:spPr>
          <a:xfrm>
            <a:off x="187200" y="230040"/>
            <a:ext cx="8769600" cy="639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T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733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4817"/>
                </a:solidFill>
                <a:latin typeface="Times New Roman"/>
                <a:ea typeface="Times New Roman"/>
              </a:rPr>
              <a:t>LESSONS LEARNE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952880" y="1371600"/>
            <a:ext cx="3733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4817"/>
                </a:solidFill>
                <a:latin typeface="Times New Roman"/>
                <a:ea typeface="Times New Roman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914400" y="220932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system is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ectly designed to get the results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gets. If we want different results, we must change the system”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lture eats strategy for lun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”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leaders help others to understand the necessity of change and to accept a common vision of the desired outcome”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952880" y="2247480"/>
            <a:ext cx="3733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 Control Charts for next 3 months to ensure stable proces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taining Change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 in to Physician Report Card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of a Balanced Score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BM Lunch Series (C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7" name="Picture 2" descr="http://leadershipchamps.files.wordpress.com/2008/03/pdca.png"/>
          <p:cNvPicPr/>
          <p:nvPr/>
        </p:nvPicPr>
        <p:blipFill>
          <a:blip r:embed="rId1"/>
          <a:stretch/>
        </p:blipFill>
        <p:spPr>
          <a:xfrm>
            <a:off x="6553080" y="152280"/>
            <a:ext cx="17528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osing the Gap……</a:t>
            </a:r>
            <a:br>
              <a:rPr sz="2400"/>
            </a:b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79" name="Picture 5" descr="http://www.crownpediatrics.com/babies.jpg"/>
          <p:cNvPicPr/>
          <p:nvPr/>
        </p:nvPicPr>
        <p:blipFill>
          <a:blip r:embed="rId1"/>
          <a:stretch/>
        </p:blipFill>
        <p:spPr>
          <a:xfrm>
            <a:off x="1276200" y="1522440"/>
            <a:ext cx="659160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Franklin Gothic Book"/>
              </a:rPr>
              <a:t>Finding Value in Health Care’s :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Franklin Gothic Book"/>
              </a:rPr>
              <a:t> Our Escape Fire….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2" name="Picture 4" descr="http://www.chicouniform.com/CDF/CDF_escapeFireHill.jpg"/>
          <p:cNvPicPr/>
          <p:nvPr/>
        </p:nvPicPr>
        <p:blipFill>
          <a:blip r:embed="rId1"/>
          <a:stretch/>
        </p:blipFill>
        <p:spPr>
          <a:xfrm>
            <a:off x="914400" y="2209680"/>
            <a:ext cx="3749760" cy="3276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933800" y="2514240"/>
            <a:ext cx="374976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ve Domains of Value: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Quality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 Statu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Satisfaction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/price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10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 (V) =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 + TQ +FS + SS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lnSpc>
                <a:spcPct val="100000"/>
              </a:lnSpc>
              <a:spcBef>
                <a:spcPts val="374"/>
              </a:spcBef>
              <a:buClr>
                <a:srgbClr val="a28e6a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e</a:t>
            </a:r>
            <a:r>
              <a:rPr b="1" lang="en-US" sz="32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clusions of the IOM Report..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Content Placeholder 6"/>
          <p:cNvSpPr/>
          <p:nvPr/>
        </p:nvSpPr>
        <p:spPr>
          <a:xfrm>
            <a:off x="3124080" y="3581280"/>
            <a:ext cx="5370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very system is perf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signed to achieve exa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results it g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533520" y="2057400"/>
            <a:ext cx="5943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s come from poor systems…not ba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esign Care Based on Best Practic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formation Technology to Improve Access to Information and to Support Clinical Decision Mak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Effective Team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 Care Among Services and Setting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 Performance and Outcom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anging the System….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2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2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20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ronchiolitis</a:t>
            </a:r>
            <a:r>
              <a:rPr b="0" lang="en-US" sz="40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541800" indent="-2260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41800" indent="-2260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elf-limited condition; viral mediated associated with URI symptoms, cough, and wheezing; most commonly dx age &lt;2.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1800" indent="-226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1800" indent="-2260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#1 discharge ICD-9 diagnosis, excluding birth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1800" indent="-2260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1800" indent="-2260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#2 in aggregate cost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1800" indent="-2260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1800" indent="-2260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dible degree of variation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1800" indent="-2260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lvl="1" marL="541800" indent="-22608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evidence-based AAP guidelines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2" name="Picture 2" descr="http://farm3.static.flickr.com/2031/2286658223_388246974e.jpg?v=0"/>
          <p:cNvPicPr/>
          <p:nvPr/>
        </p:nvPicPr>
        <p:blipFill>
          <a:blip r:embed="rId1"/>
          <a:stretch/>
        </p:blipFill>
        <p:spPr>
          <a:xfrm>
            <a:off x="4876920" y="1447920"/>
            <a:ext cx="38098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r>
              <a:rPr b="1" lang="en-US" sz="4000" spc="-1" strike="noStrike">
                <a:solidFill>
                  <a:srgbClr val="ff0000"/>
                </a:solidFill>
                <a:latin typeface="Franklin Gothic Book"/>
              </a:rPr>
              <a:t> Evidence From the American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ademy</a:t>
            </a:r>
            <a:r>
              <a:rPr b="1" lang="en-US" sz="4000" spc="-1" strike="noStrike">
                <a:solidFill>
                  <a:srgbClr val="ff0000"/>
                </a:solidFill>
                <a:latin typeface="Franklin Gothic Book"/>
              </a:rPr>
              <a:t> of Pediatrics…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Bronchodilators should not be used routinely for management. An optional trial of an - or ß-agonist should be continued only if objective evaluation indicates a clinical response. Most positive studies of bronchodilators for management of bronchiolitis show transient improvement of unclear clinical significanc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1371600" y="533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cific AI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duce  the utilization of bronchodilators for bronchiolitis by 20% when comparing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2010 data to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 2008 and 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 2009 data in the Pediatric Inpatient Ward and in the Pediatric Emergency Room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lobal Aim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mprove Effectiveness of Care (IOM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6" name="Picture 2" descr="http://www.fachc.org/m/hd-performance-improvement.gif"/>
          <p:cNvPicPr/>
          <p:nvPr/>
        </p:nvPicPr>
        <p:blipFill>
          <a:blip r:embed="rId1"/>
          <a:stretch/>
        </p:blipFill>
        <p:spPr>
          <a:xfrm>
            <a:off x="838080" y="3733920"/>
            <a:ext cx="67057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0" y="1152360"/>
            <a:ext cx="9144000" cy="50961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meli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lan……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the Tea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Physicians: Pediatric Hospitalists; Pediatric ED Physicians, Community Pediatricians, and Pediatric Pulmonologists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tory Therapis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se Managers from the Inpatient and Pediatric E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ian Liaison to IS Department (order set creation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1" name="Picture 2" descr="http://leadershipchamps.files.wordpress.com/2008/03/pdca.png"/>
          <p:cNvPicPr/>
          <p:nvPr/>
        </p:nvPicPr>
        <p:blipFill>
          <a:blip r:embed="rId1"/>
          <a:stretch/>
        </p:blipFill>
        <p:spPr>
          <a:xfrm>
            <a:off x="6477120" y="228600"/>
            <a:ext cx="17524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2:59:23Z</dcterms:created>
  <dc:creator>Steve Narang</dc:creator>
  <dc:description/>
  <dc:language>en-US</dc:language>
  <cp:lastModifiedBy>snarang</cp:lastModifiedBy>
  <dcterms:modified xsi:type="dcterms:W3CDTF">2011-04-08T21:17:51Z</dcterms:modified>
  <cp:revision>74</cp:revision>
  <dc:subject/>
  <dc:title>Slide 1</dc:title>
</cp:coreProperties>
</file>